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674F-8455-4AE5-9D37-80F4EE12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D33F-DEAE-4B54-8521-96795E97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977-A157-497E-AE27-656F0E8FB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665-1A19-4140-BF76-167CB2B9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AB17-34FD-43C9-A84F-BFAC8E17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203F-21F3-4FA0-8EBA-8022894E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8EBF-039F-4DDB-9A9F-779659DB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8D5-724A-46CC-B730-F7224703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5A55A-83AB-40F6-B5B2-D0DBEA1A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95B7-0611-4258-A4EC-EB071AD4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9358-84C7-4A0C-9BD0-F18DDE31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9CA-DCDE-4646-86E0-C38DBC00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E9F-D517-4503-B010-C71C6EED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1839-8F44-415F-9EB6-C156D496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2EDD-06A3-415E-AD02-FC8630C8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F13C-64BE-4E0F-B6F7-31162633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3F83-B638-453E-BBE6-EFDFDC2C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A38-78C4-42D2-B003-46F5A185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028-AD7A-4CFD-B1DF-800529E4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CCF-0F05-4304-8092-EF15189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9D31-AD71-48BE-9626-0D163CA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459-B6FE-4913-8346-DB911691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E9B-5C7C-43AE-9F0E-BF89274C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5B9-C637-44AD-9A78-C51AD21C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03D4-2745-421D-B75D-1C2D90B581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1C5F-F415-4C8B-9C35-F2D0E0EE47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ps.ablongman.com/ab_leverduffy_teachtech_2/0,9593,1568290-,00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tamath.com/multiple/multiple_choice_questions.html" TargetMode="External"/><Relationship Id="rId2" Type="http://schemas.openxmlformats.org/officeDocument/2006/relationships/hyperlink" Target="http://www.metamath.com/multiple/multiple_choice_questions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igning and Planning Technology  Enhanced Instru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apter Tw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371600" y="5442120"/>
            <a:ext cx="6705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your lear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rategies: Step 4 cont.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ing strategies: Methods you will use to assist your students in achieving objec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 strategies: Techniques and activities required of students to master 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and select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and select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a summative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PA: Design Plan Act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n Instr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The Lesson Plan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on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380880" y="2671920"/>
            <a:ext cx="838224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Plan well, teach well."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-P-A system includes the design phase, the ________ plan phase, and the action plan pha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xonom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____strategies are the techniques and activities required of students to master cont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b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ar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estions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________ feedback occurs at the end of the less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mm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Learning Environ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rangement of classro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you teach                      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Tahoma"/>
                <a:hlinkClick r:id="rId1"/>
              </a:rPr>
              <a:t>Learning Style Surve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r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-260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0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Learning Style Survey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ueprint for Learning </a:t>
            </a:r>
            <a:r>
              <a:rPr b="1" lang="en-US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236196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sig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c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43000" y="5213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D-P-A System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signing the Instruction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ok at the broad pi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aspects of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Instructional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ynamic Instructional Desig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d by Robert Gagne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the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ablish the learning enviro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teaching and learning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and select 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a summative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your lear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Prescrip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ynamic Instructional Design  Model (DID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now your learn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your objectiv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Foundat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loom’s Taxonom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blm"/>
          <p:cNvPicPr/>
          <p:nvPr/>
        </p:nvPicPr>
        <p:blipFill>
          <a:blip r:embed="rId1"/>
          <a:stretch/>
        </p:blipFill>
        <p:spPr>
          <a:xfrm>
            <a:off x="1219320" y="19810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00:53:44Z</dcterms:created>
  <dc:creator>Janna</dc:creator>
  <dc:description/>
  <cp:keywords>TAMU-C</cp:keywords>
  <dc:language>en-US</dc:language>
  <cp:lastModifiedBy>AB_Buckrie</cp:lastModifiedBy>
  <dcterms:modified xsi:type="dcterms:W3CDTF">2017-02-02T08:26:28Z</dcterms:modified>
  <cp:revision>14</cp:revision>
  <dc:subject>ETEC 562 - Chapter 2</dc:subject>
  <dc:title>Designing and Planning Technology  Enhanced Instruction</dc:title>
</cp:coreProperties>
</file>